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2811-6C5D-499F-B30B-9EFC170D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292-1330-411C-AD6F-436C7B9C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69D-D044-4536-92A0-64C4D6C2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1206-3574-4DFF-845E-ABCBBB54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6196-E645-4E4C-9B59-8B414F03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5FDD-59A1-48C8-8D5A-46548A30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C942-846A-49AD-B7C1-C97ABF40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4DE9-55B1-4865-A710-18236C92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0641-5FB9-4777-84A8-6A42DA44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8F34-CDA4-46D8-BAD5-B668483D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D116-7F8E-4048-95FB-43B84E89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24CB-5A42-4BEA-86ED-738034C0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276A-1426-4FA8-A12D-29264B03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A967-3C01-47B4-9F13-B54A3747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F139-2924-46BB-83F2-65A8D71E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42EF-931D-478E-BB84-F42B9415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F068-70C6-475E-95F2-16C9E0FF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73A3-E150-483C-BE3B-25DB01A6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416B-64E0-44C1-B6A5-AF9E9904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A66D-E331-45DC-8324-CB6E5A83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09E-176C-4BDA-A619-4B5FFA92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B01E-126F-41F6-A07B-68C57FE7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13A-2301-4ACA-956E-B8E5531D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92E-E58F-47BE-8C1B-34F48A73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2873-9CA0-479F-B89B-A0D4E06BAE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51EA-AC30-472A-AA40-6E63F91BFD3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Me llamo __________            Clase 7IM</a:t>
            </a:r>
            <a:br>
              <a:rPr sz="4000"/>
            </a:b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La fecha es el 15 de septiembre del 20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Times New Roman"/>
              </a:rPr>
              <a:t>Propósito # 1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, ¿Prefieres estudiar español o matemátic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ctividad Inici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-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r el contrato y la hoja de conta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-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ia y respon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ede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blar ingles en la clase de españo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A que hor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uerme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ds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en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chas cla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deporte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ueg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ugar deportes en la clase de educación fís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iere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ds. tarea ho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3809880"/>
            <a:ext cx="6934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</a:rPr>
              <a:t>No, yo no puedo hablar ingles en la clase de españ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267080"/>
            <a:ext cx="6934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</a:rPr>
              <a:t>Nosotros dormimos a las…..de la no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4724280"/>
            <a:ext cx="6934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</a:rPr>
              <a:t>Si tengo muchas cl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5105520"/>
            <a:ext cx="6934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</a:rPr>
              <a:t>Yo juego…… </a:t>
            </a:r>
            <a:r>
              <a:rPr b="0" i="1" lang="es-ES_tradnl" sz="2400" spc="-1" strike="noStrike">
                <a:solidFill>
                  <a:srgbClr val="008000"/>
                </a:solidFill>
                <a:latin typeface="Times New Roman"/>
              </a:rPr>
              <a:t>(No juego depor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5562720"/>
            <a:ext cx="6934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</a:rPr>
              <a:t>Si vamos a jugar deportes en la clase de educación fís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6324480"/>
            <a:ext cx="6934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</a:rPr>
              <a:t>No queremos tareas h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nd the INFINITIVE en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stud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2. Remove the INFINITIVE verb en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Est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3. Replace with the appropriate NEW end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Yo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st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Tú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st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Él ella Ud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st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Nosotros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st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cc0099"/>
                </a:solidFill>
                <a:latin typeface="Times New Roman"/>
              </a:rPr>
              <a:t>Vosotros</a:t>
            </a:r>
            <a:r>
              <a:rPr b="0" i="1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cc0099"/>
                </a:solidFill>
                <a:latin typeface="Times New Roman"/>
              </a:rPr>
              <a:t>Est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llos Ellas Uds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st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2133720"/>
            <a:ext cx="38088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19680" y="3367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4191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36960" y="46623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8000" y="5105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99520" y="548640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33720" y="59436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16440" y="6338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6320" y="1143000"/>
          <a:ext cx="9067680" cy="5043600"/>
        </p:xfrm>
        <a:graphic>
          <a:graphicData uri="http://schemas.openxmlformats.org/drawingml/2006/table">
            <a:tbl>
              <a:tblPr/>
              <a:tblGrid>
                <a:gridCol w="3354480"/>
                <a:gridCol w="5713200"/>
              </a:tblGrid>
              <a:tr h="753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cc"/>
                          </a:solidFill>
                          <a:latin typeface="Times New Roman"/>
                        </a:rPr>
                        <a:t>                                      </a:t>
                      </a: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hablar          </a:t>
                      </a: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Vender         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sub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 flipV="1">
            <a:off x="350532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31520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Verbos de Cambio Radical E</a:t>
            </a:r>
            <a:r>
              <a:rPr b="0" lang="en-US" sz="4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IE</a:t>
            </a:r>
            <a:br>
              <a:rPr sz="4000"/>
            </a:br>
            <a:r>
              <a:rPr b="0" i="1" lang="en-US" sz="4000" spc="-1" strike="noStrike">
                <a:solidFill>
                  <a:srgbClr val="3366cc"/>
                </a:solidFill>
                <a:latin typeface="Times New Roman"/>
              </a:rPr>
              <a:t>(stem-changing verbs E</a:t>
            </a:r>
            <a:r>
              <a:rPr b="0" i="1" lang="en-US" sz="4000" spc="-1" strike="noStrike">
                <a:solidFill>
                  <a:srgbClr val="3366cc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3366cc"/>
                </a:solidFill>
                <a:latin typeface="Times New Roman"/>
              </a:rPr>
              <a:t>I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34136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verbs in Spanish are called stem-changing verbs. When conjugated, these verbs don’t only change the ending, they also change the STEM or root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P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pronoun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sot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osotro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00200" y="3124080"/>
          <a:ext cx="6324480" cy="3622680"/>
        </p:xfrm>
        <a:graphic>
          <a:graphicData uri="http://schemas.openxmlformats.org/drawingml/2006/table">
            <a:tbl>
              <a:tblPr/>
              <a:tblGrid>
                <a:gridCol w="3276720"/>
                <a:gridCol w="304776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cc"/>
                          </a:solidFill>
                          <a:latin typeface="Times New Roman"/>
                        </a:rPr>
                        <a:t>Emp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3366cc"/>
                          </a:solidFill>
                          <a:latin typeface="Times New Roman"/>
                        </a:rPr>
                        <a:t>z</a:t>
                      </a:r>
                      <a:r>
                        <a:rPr b="1" lang="en-US" sz="2800" spc="-1" strike="noStrike" u="sng">
                          <a:solidFill>
                            <a:srgbClr val="3366cc"/>
                          </a:solidFill>
                          <a:uFillTx/>
                          <a:latin typeface="Times New Roman"/>
                        </a:rPr>
                        <a:t>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4952880" y="36576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66cc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41148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66cc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4648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66cc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5181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66cc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5791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3366cc"/>
                </a:solidFill>
                <a:latin typeface="Arial"/>
              </a:rPr>
              <a:t>Emp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i="1" lang="es-ES_tradnl" sz="2800" spc="-1" strike="noStrike">
                <a:solidFill>
                  <a:srgbClr val="3366cc"/>
                </a:solidFill>
                <a:latin typeface="Arial"/>
              </a:rPr>
              <a:t>z</a:t>
            </a:r>
            <a:r>
              <a:rPr b="0" i="1" lang="es-ES_tradnl" sz="2800" spc="-1" strike="noStrike" u="sng">
                <a:solidFill>
                  <a:srgbClr val="3366cc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62485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66cc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51920" y="1722600"/>
            <a:ext cx="906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ome examples of  stem-changing verb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Querer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(to want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 Perder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(to lose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eferir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(to prefer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se verbs are often followed by an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FINI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r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Verbos de Cambio Radical E</a:t>
            </a:r>
            <a:r>
              <a:rPr b="0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IE</a:t>
            </a:r>
            <a:br>
              <a:rPr sz="4000"/>
            </a:br>
            <a:r>
              <a:rPr b="0" i="1" lang="en-US" sz="4000" spc="-1" strike="noStrike">
                <a:solidFill>
                  <a:srgbClr val="0000ff"/>
                </a:solidFill>
                <a:latin typeface="Times New Roman"/>
              </a:rPr>
              <a:t>(stem-changing verbs E</a:t>
            </a:r>
            <a:r>
              <a:rPr b="0" i="1" lang="en-US" sz="4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0000ff"/>
                </a:solidFill>
                <a:latin typeface="Times New Roman"/>
              </a:rPr>
              <a:t>I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640" y="5043600"/>
            <a:ext cx="43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los Prefiere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studiar.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9760" y="5653080"/>
            <a:ext cx="46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los no quiere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studiar.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69280" y="50436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hey prefer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o stud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68080" y="5715000"/>
            <a:ext cx="41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hey don’t want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o study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area #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e y completa la hoja distribu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0:17:12Z</dcterms:created>
  <dc:creator>Helen Zumaeta</dc:creator>
  <dc:description/>
  <dc:language>en-US</dc:language>
  <cp:lastModifiedBy>Helen Zumaeta</cp:lastModifiedBy>
  <dcterms:modified xsi:type="dcterms:W3CDTF">2011-09-21T19:30:05Z</dcterms:modified>
  <cp:revision>10</cp:revision>
  <dc:subject/>
  <dc:title>Me llamo __________            Clase 7IM La fecha es el 14 de septiembre del 2011</dc:title>
</cp:coreProperties>
</file>